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560-D0CD-40E8-A917-1D7F65D4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A67-F764-47CC-81F2-A1F318A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BB1-4700-4D15-9178-3E2FB204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99D-D9CA-4680-B712-9B0F83BC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F4C-E5AD-44CB-983F-F54E78F5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0FA-0737-4818-8B66-BF93895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E8A-C2FB-402B-8951-5CE47E8E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552-1011-4013-8546-E9175A8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E2B-98B7-4A98-8838-56D1061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382-AD7C-4902-BC16-F793AFC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014-1A7F-4434-8758-8CAB823C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EBE-2258-419E-88F0-8EA22CD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7726-3D1A-4DD7-ACBD-453EAE8F8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ff"/>
                </a:solidFill>
                <a:latin typeface="Arial"/>
              </a:rPr>
              <a:t>Greek Gover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a ki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ity-states were ruled by a king. This type of government is called a monarchy. The city-state of Corinth is an example; Corinth was ruled by a king.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a small grou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ity-states were ruled by a small group of people. This type of government is called an oligarchy. The city-state of Sparta was ruled by a small group of retired and highly respected warriors.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d by man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ity-state, Athens, experimented with democracy, or rule by many. For a while, every citizen in Athens could vote on laws and changes in the laws. This form of government continued until Athens was conquered by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y, aristocracy, tyranny, oligarchy &amp;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krat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eople power ( no clear idea who people w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les of Marathon and Salamis. That victory in turn encouraged the poorest Athenians to demand a greater say in the running of their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 BCE Pericles started the move to democracy. Based on direct democracy. (all people vote on all iss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itizens had to take an active part in government (rule by many) if called on to do 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e do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were free men of double descent  (born in Athens, could not be born elsew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, children, and slaves were not citizens, and thus could not participate or vot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year, there was a drawing. 501 names were drawn from a pool of all the citizens of Ath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at year, they were responsible for making new laws and for changing old laws as they saw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to be voted on by the people before offi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could be ostracized for 10 yrs. had to have 6,000 v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democracy important in your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an example of democracy in use. And printout the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01:50Z</dcterms:created>
  <dc:creator>jobert</dc:creator>
  <dc:description/>
  <dc:language>en-US</dc:language>
  <cp:lastModifiedBy>jobert</cp:lastModifiedBy>
  <dcterms:modified xsi:type="dcterms:W3CDTF">2014-04-01T16:01:50Z</dcterms:modified>
  <cp:revision>1</cp:revision>
  <dc:subject/>
  <dc:title>Greek Government </dc:title>
</cp:coreProperties>
</file>